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E208-570D-41AE-8341-219617FFBF0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DED9-4033-4163-B69B-13CFFA47C5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E62B-8F2D-4F70-82DB-982412E6EC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5EE0-7F5D-47CD-8B95-810012D8FE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CAA6-68DD-4516-8DC4-5C41E50215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B48-F03A-4A53-974A-B15525C0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73C-677E-4572-8A5C-81AC9480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F27-80BC-457F-9C53-0CF43B72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95A-D441-4AAA-A4FD-4428EC2E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9EA-5279-4030-B8DA-CB8A1411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17F-2222-4E43-94EC-D4DFB900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933-EF97-4DD2-9A9A-94C49E98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8CBE-50AC-4B92-AB18-95C0CCB5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E17-1CEA-47C8-B86E-99D700B1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68C-1A14-4816-8BC6-02C6A257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21D-8EF4-4B14-A055-F8406E21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B0F-F22F-4FFA-A1E8-2DD2C888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8223-872B-427E-85BD-BAD390AB78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4" descr="audio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071720" y="307188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cc"/>
                </a:solidFill>
                <a:latin typeface="Arial"/>
              </a:rPr>
              <a:t>¿Qué es el soni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071720" y="3071880"/>
            <a:ext cx="712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¿Qué características describen al son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or ejemp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Frecuencia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071720" y="3071880"/>
            <a:ext cx="71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cc"/>
                </a:solidFill>
                <a:latin typeface="Arial"/>
              </a:rPr>
              <a:t>¿Qué es la Música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Sonid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Picture 5" descr="Onda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071720" y="3071880"/>
            <a:ext cx="71276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¿Qué características describen los aspectos de la mús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or ejemp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T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Rit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Ti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-“Intenc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4T05:25:06Z</dcterms:modified>
  <cp:revision>48</cp:revision>
  <dc:subject/>
  <dc:title>Taller de Ciencias en la Música </dc:title>
</cp:coreProperties>
</file>